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10.jpeg" ContentType="image/jpeg"/>
  <Override PartName="/ppt/media/image8.jpeg" ContentType="image/jpeg"/>
  <Override PartName="/ppt/media/image2.gif" ContentType="image/gif"/>
  <Override PartName="/ppt/media/image9.jpeg" ContentType="image/jpeg"/>
  <Override PartName="/ppt/media/image11.jpeg" ContentType="image/jpeg"/>
  <Override PartName="/ppt/media/image5.gif" ContentType="image/gif"/>
  <Override PartName="/ppt/media/image14.jpeg" ContentType="image/jpeg"/>
  <Override PartName="/ppt/media/image22.gif" ContentType="image/gif"/>
  <Override PartName="/ppt/media/image21.gif" ContentType="image/gif"/>
  <Override PartName="/ppt/media/image6.jpeg" ContentType="image/jpeg"/>
  <Override PartName="/ppt/media/image20.jpeg" ContentType="image/jpeg"/>
  <Override PartName="/ppt/media/image19.jpeg" ContentType="image/jpeg"/>
  <Override PartName="/ppt/media/image4.gif" ContentType="image/gif"/>
  <Override PartName="/ppt/media/image1.jpeg" ContentType="image/jpeg"/>
  <Override PartName="/ppt/media/image18.jpeg" ContentType="image/jpeg"/>
  <Override PartName="/ppt/media/image13.jpeg" ContentType="image/jpeg"/>
  <Override PartName="/ppt/media/image7.jpeg" ContentType="image/jpeg"/>
  <Override PartName="/ppt/media/image17.jpeg" ContentType="image/jpeg"/>
  <Override PartName="/ppt/media/image3.png" ContentType="image/png"/>
  <Override PartName="/ppt/media/chimes.wav" ContentType="audio/x-wav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A48E-6C51-4ECA-B71C-30C5611E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8689-F6A6-46BE-B09C-59E1C482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9B86-EA7F-496D-A632-3FD4305E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4284-3280-4A98-BF2D-1641178F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357E-121A-4A7D-B4F0-CF96D5EC5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05FA-CF2C-4663-8338-604609A2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2BBE-D0B6-4671-BFEE-03F56016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5B48-31AC-4503-8883-12FCFDC6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B932-3632-4361-AF67-DBCBA519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26E0-BADE-446D-8F90-0BC21BF5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FC8F-458E-4EC1-A60B-391A12A0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A5EA-7940-4654-909F-1C2A4295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27F5-9CEA-4099-9343-63754FA7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876D-0E74-41FC-BB26-6E3B6E53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0C4F-5027-469D-9449-33E9B1DF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AA16-AA5D-4B00-9244-25D742334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C0A9-3ED4-4A70-A203-0D1786DA6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93E757-F932-40C9-8A5E-3E27AC418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D48A99-B848-493B-B1D1-A99A5971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7A796B-9C2B-4DD2-BCA1-7B0B4EFC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5C97A5-B5DC-4DB9-9BFA-776B128B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ED03A3-0FBD-4BA1-BF44-27130BD9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B296-75AE-4F24-B1EA-AA9F9865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966EA2-6D80-4233-9C09-1CA667BC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2D8BA2-7530-4519-A41E-D94969C8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E5203A-E301-4098-82E3-D64C16D0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000251-39A8-4FC5-8223-8D97A80A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1CD021-941E-472F-B899-0FDF72F3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57CA2F-C6D8-49BB-B4FE-8F3040A7F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191837-F31F-4CC2-A47E-67DBAD484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43FD4-EDFC-42D6-8238-5CA63A00F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33750-C63C-4FB5-B284-E613859C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855F8-5369-48F7-AAB0-E6321876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9754-2537-453F-9121-6D65B20F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58A00-B7C3-4185-AB7E-2909542A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2E7D2-7AE8-488A-985A-09122AA8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6F5E7-DB83-455C-8F84-EA20A9F6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D04D3-D048-4D8E-858E-F3E15EE6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5F67A-E564-4D6F-B345-46F711B6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40049-C8BA-43AA-8D61-FFAF3EB2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7CF07-BE7E-4FF5-9A5B-CE0A7C9A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E6E29-72A4-45E3-B713-1500A3874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8BDC5-7FD4-4686-81D1-7EC7D7363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BFE33-244A-47B6-8D05-CFBC44A8F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B762-D94D-4D5A-A789-58720828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0895C-77E4-40D3-B597-1220F1A4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0EDB9-1BAA-4276-8A0D-538E6784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85C85-E69A-4E1E-9A9C-B5DA4BBE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8605E-D907-4F9E-A030-EE600AF3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CFEDA-C835-4D0C-9B55-ABABDFCC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14377-7FC2-4BF2-B190-7D1D37B4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3B162-07FC-4AF6-BA8B-EE97867E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882C8-9AE7-4F6A-9EFF-11A415C6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CB225-084C-4F24-809C-A7EA552B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46DF8-90B8-49BB-9451-ED42FA883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4E84-6B27-4258-BF6E-98A2EDE3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13361-84CE-4348-890E-986FFB011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3DC5-A8D0-46A2-A057-D36CAEBA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5CBF-9694-4DD4-A936-81E6438B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7B39-892E-4568-A1E1-3FBB58E7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707B-D415-4F23-B96D-607B494B78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FF45-E462-466B-806C-AA3B976EDA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ED23-241A-49A3-AB65-6B9B0F00A3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24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270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84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98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312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326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340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354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356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0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1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2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9355-8F6C-4952-87A1-A93A6FAF65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412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426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dt" idx="13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ftr" idx="1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62C4-B977-43F2-B09A-C19F3818A8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576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xtqz.sdedu.net/cx/cxmh/pic_a02.htm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xtqz.sdedu.net/cx/cxmh/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ews.tom.com/1002/3291/2004417-840013.html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179280" y="476280"/>
            <a:ext cx="8534520" cy="617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" descr="025.gif (11031 個位元組)"/>
          <p:cNvPicPr/>
          <p:nvPr/>
        </p:nvPicPr>
        <p:blipFill>
          <a:blip r:embed="rId1"/>
          <a:stretch/>
        </p:blipFill>
        <p:spPr>
          <a:xfrm>
            <a:off x="1143000" y="358128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 txBox="1"/>
          <p:nvPr/>
        </p:nvSpPr>
        <p:spPr>
          <a:xfrm>
            <a:off x="1187280" y="1371600"/>
            <a:ext cx="7272360" cy="22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诚信 </a:t>
            </a: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,  </a:t>
            </a:r>
            <a:r>
              <a:rPr b="1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永久的品质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1089000" y="403200"/>
            <a:ext cx="550404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spcBef>
                <a:spcPts val="5187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83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议一议：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06360" y="2147760"/>
            <a:ext cx="82533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0" lang="zh-CN" sz="3700" spc="-1" strike="noStrike">
                <a:solidFill>
                  <a:srgbClr val="fc1239"/>
                </a:solidFill>
                <a:latin typeface="Times New Roman"/>
                <a:ea typeface="华文新魏"/>
              </a:rPr>
              <a:t>同学们：</a:t>
            </a:r>
            <a:r>
              <a:rPr b="0" lang="zh-CN" sz="3700" spc="-1" strike="noStrike">
                <a:solidFill>
                  <a:srgbClr val="0000ff"/>
                </a:solidFill>
                <a:latin typeface="Times New Roman"/>
                <a:ea typeface="黑体"/>
              </a:rPr>
              <a:t>不同的人</a:t>
            </a:r>
            <a:r>
              <a:rPr b="0" lang="zh-CN" sz="3700" spc="-1" strike="noStrike">
                <a:solidFill>
                  <a:srgbClr val="0000ff"/>
                </a:solidFill>
                <a:latin typeface="Times New Roman"/>
                <a:ea typeface="黑体"/>
              </a:rPr>
              <a:t>,</a:t>
            </a:r>
            <a:r>
              <a:rPr b="0" lang="zh-CN" sz="3700" spc="-1" strike="noStrike">
                <a:solidFill>
                  <a:srgbClr val="0000ff"/>
                </a:solidFill>
                <a:latin typeface="Times New Roman"/>
                <a:ea typeface="黑体"/>
              </a:rPr>
              <a:t>不同的企业</a:t>
            </a:r>
            <a:r>
              <a:rPr b="0" lang="zh-CN" sz="3700" spc="-1" strike="noStrike">
                <a:solidFill>
                  <a:srgbClr val="0000ff"/>
                </a:solidFill>
                <a:latin typeface="Times New Roman"/>
                <a:ea typeface="黑体"/>
              </a:rPr>
              <a:t>,</a:t>
            </a:r>
            <a:r>
              <a:rPr b="0" lang="zh-CN" sz="3700" spc="-1" strike="noStrike">
                <a:solidFill>
                  <a:srgbClr val="0000ff"/>
                </a:solidFill>
                <a:latin typeface="Times New Roman"/>
                <a:ea typeface="黑体"/>
              </a:rPr>
              <a:t>不同的结局</a:t>
            </a:r>
            <a:r>
              <a:rPr b="0" lang="zh-CN" sz="3700" spc="-1" strike="noStrike">
                <a:solidFill>
                  <a:srgbClr val="0000ff"/>
                </a:solidFill>
                <a:latin typeface="Times New Roman"/>
                <a:ea typeface="黑体"/>
              </a:rPr>
              <a:t>,</a:t>
            </a:r>
            <a:r>
              <a:rPr b="0" lang="zh-CN" sz="3700" spc="-1" strike="noStrike">
                <a:solidFill>
                  <a:srgbClr val="0000ff"/>
                </a:solidFill>
                <a:latin typeface="Times New Roman"/>
                <a:ea typeface="黑体"/>
              </a:rPr>
              <a:t>究其根本原因何在呢</a:t>
            </a:r>
            <a:r>
              <a:rPr b="0" lang="zh-CN" sz="3700" spc="-1" strike="noStrike">
                <a:solidFill>
                  <a:srgbClr val="0000ff"/>
                </a:solidFill>
                <a:latin typeface="Times New Roman"/>
                <a:ea typeface="黑体"/>
              </a:rPr>
              <a:t>?</a:t>
            </a:r>
            <a:r>
              <a:rPr b="0" lang="zh-CN" sz="3700" spc="-1" strike="noStrike">
                <a:solidFill>
                  <a:srgbClr val="0000ff"/>
                </a:solidFill>
                <a:latin typeface="Times New Roman"/>
                <a:ea typeface="黑体"/>
              </a:rPr>
              <a:t>又有什么值得我们思考呢？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7413480" y="4946760"/>
            <a:ext cx="1730520" cy="190476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519840" y="228600"/>
            <a:ext cx="1278000" cy="825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00"/>
                </a:solidFill>
                <a:latin typeface="Times New Roman"/>
                <a:ea typeface="隶书"/>
              </a:rPr>
              <a:t>总结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80880" y="3048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诚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143000" y="1828800"/>
            <a:ext cx="152280" cy="3048120"/>
          </a:xfrm>
          <a:custGeom>
            <a:avLst/>
            <a:gdLst>
              <a:gd name="textAreaLeft" fmla="*/ 97200 w 152280"/>
              <a:gd name="textAreaRight" fmla="*/ 152640 w 15228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19640" y="1557360"/>
            <a:ext cx="5410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、赢得信任，赢得友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、创造财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1403280" y="1773360"/>
            <a:ext cx="7543800" cy="1221480"/>
            <a:chOff x="1403280" y="1773360"/>
            <a:chExt cx="7543800" cy="1221480"/>
          </a:xfrm>
        </p:grpSpPr>
        <p:sp>
          <p:nvSpPr>
            <p:cNvPr id="676" name=""/>
            <p:cNvSpPr/>
            <p:nvPr/>
          </p:nvSpPr>
          <p:spPr>
            <a:xfrm>
              <a:off x="1403280" y="200160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对个人的价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384360" y="1773360"/>
              <a:ext cx="76320" cy="99036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25560 h 990360"/>
                <a:gd name="textAreaBottom" fmla="*/ 964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384360" y="2535120"/>
              <a:ext cx="556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、是个人融入社会，走向未来的通行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1403280" y="3573360"/>
            <a:ext cx="7391520" cy="1526400"/>
            <a:chOff x="1403280" y="3573360"/>
            <a:chExt cx="7391520" cy="1526400"/>
          </a:xfrm>
        </p:grpSpPr>
        <p:sp>
          <p:nvSpPr>
            <p:cNvPr id="680" name=""/>
            <p:cNvSpPr/>
            <p:nvPr/>
          </p:nvSpPr>
          <p:spPr>
            <a:xfrm>
              <a:off x="1403280" y="41065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对企业的价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384720" y="3877920"/>
              <a:ext cx="75960" cy="99072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384720" y="3573360"/>
              <a:ext cx="54100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、赢得信誉，树立品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、是企业生存的根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84720" y="464004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、是企业发展壮大的的根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324000" y="2129040"/>
            <a:ext cx="86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中国企业因为信用缺失而导致的直接和间接的经济损失高达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5855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亿元，相当于中国年财政收入的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37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％，中国国民生产总值每年因此至少减少二个百分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468360" y="189000"/>
            <a:ext cx="1224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ffcc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彩云"/>
              </a:rPr>
              <a:t>资料</a:t>
            </a:r>
            <a:endParaRPr b="1" lang="en-US" sz="4000" spc="1" strike="noStrike">
              <a:ln w="12600">
                <a:solidFill>
                  <a:srgbClr val="ff3300"/>
                </a:solidFill>
                <a:miter/>
              </a:ln>
              <a:solidFill>
                <a:srgbClr val="ffcc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686" name=""/>
          <p:cNvSpPr/>
          <p:nvPr/>
        </p:nvSpPr>
        <p:spPr>
          <a:xfrm>
            <a:off x="468360" y="3933720"/>
            <a:ext cx="8353440" cy="13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对</a:t>
            </a: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国家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来说：有无诚信关系着我国的国际形象，国际竞争力，关系着国家和民族的兴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4368960" y="1944720"/>
            <a:ext cx="79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请大家再来列举一些生活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不讲诚信的事情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333360"/>
            <a:ext cx="777708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33360"/>
            <a:ext cx="835200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1930320" y="366840"/>
            <a:ext cx="464364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930320" y="366840"/>
            <a:ext cx="464364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930320" y="366840"/>
            <a:ext cx="464364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930320" y="366840"/>
            <a:ext cx="464364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1930320" y="366840"/>
          <a:ext cx="365040" cy="612432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03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5" name=""/>
          <p:cNvGraphicFramePr/>
          <p:nvPr/>
        </p:nvGraphicFramePr>
        <p:xfrm>
          <a:off x="1940040" y="884160"/>
          <a:ext cx="5273640" cy="5597640"/>
        </p:xfrm>
        <a:graphic>
          <a:graphicData uri="http://schemas.openxmlformats.org/drawingml/2006/table">
            <a:tbl>
              <a:tblPr/>
              <a:tblGrid>
                <a:gridCol w="527364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3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6" name=""/>
          <p:cNvGraphicFramePr/>
          <p:nvPr/>
        </p:nvGraphicFramePr>
        <p:xfrm>
          <a:off x="1949400" y="1112760"/>
          <a:ext cx="5264280" cy="5149800"/>
        </p:xfrm>
        <a:graphic>
          <a:graphicData uri="http://schemas.openxmlformats.org/drawingml/2006/table">
            <a:tbl>
              <a:tblPr/>
              <a:tblGrid>
                <a:gridCol w="2631960"/>
                <a:gridCol w="2632320"/>
              </a:tblGrid>
              <a:tr h="514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7" name=""/>
          <p:cNvGraphicFramePr/>
          <p:nvPr/>
        </p:nvGraphicFramePr>
        <p:xfrm>
          <a:off x="1968480" y="3171960"/>
          <a:ext cx="182520" cy="517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8" name=""/>
          <p:cNvGraphicFramePr/>
          <p:nvPr/>
        </p:nvGraphicFramePr>
        <p:xfrm>
          <a:off x="1968480" y="5737320"/>
          <a:ext cx="182520" cy="517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9" name=""/>
          <p:cNvGraphicFramePr/>
          <p:nvPr/>
        </p:nvGraphicFramePr>
        <p:xfrm>
          <a:off x="4591080" y="3171960"/>
          <a:ext cx="182520" cy="517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0" name=""/>
          <p:cNvGraphicFramePr/>
          <p:nvPr/>
        </p:nvGraphicFramePr>
        <p:xfrm>
          <a:off x="4591080" y="5737320"/>
          <a:ext cx="182520" cy="517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2060640" y="930240"/>
            <a:ext cx="9360" cy="4752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3849480" cy="280980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3"/>
          <a:stretch/>
        </p:blipFill>
        <p:spPr>
          <a:xfrm>
            <a:off x="684360" y="3141720"/>
            <a:ext cx="3776400" cy="302400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4"/>
          <a:stretch/>
        </p:blipFill>
        <p:spPr>
          <a:xfrm>
            <a:off x="4702320" y="333360"/>
            <a:ext cx="4046400" cy="273672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/>
          <p:cNvPicPr/>
          <p:nvPr/>
        </p:nvPicPr>
        <p:blipFill>
          <a:blip r:embed="rId5"/>
          <a:stretch/>
        </p:blipFill>
        <p:spPr>
          <a:xfrm>
            <a:off x="4716360" y="3141720"/>
            <a:ext cx="3973680" cy="302400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/>
          <p:cNvPicPr/>
          <p:nvPr/>
        </p:nvPicPr>
        <p:blipFill>
          <a:blip r:embed="rId6"/>
          <a:stretch/>
        </p:blipFill>
        <p:spPr>
          <a:xfrm>
            <a:off x="2060640" y="6299280"/>
            <a:ext cx="9360" cy="4752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 txBox="1"/>
          <p:nvPr/>
        </p:nvSpPr>
        <p:spPr>
          <a:xfrm>
            <a:off x="539640" y="6248520"/>
            <a:ext cx="7128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黑心制造黑心棉，失去诚信的代价是什么？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1014480" y="33480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辩一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418120" y="2298600"/>
            <a:ext cx="435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行楷"/>
              </a:rPr>
              <a:t>讲诚信究竟吃不吃亏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644400" y="115920"/>
            <a:ext cx="1317960" cy="6591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d60093"/>
              </a:gs>
              <a:gs pos="100000">
                <a:srgbClr val="ff3300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Arial"/>
                <a:ea typeface="隶书"/>
              </a:rPr>
              <a:t>相关链接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0920" y="981000"/>
            <a:ext cx="8821800" cy="32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材料：日本餐饮业有条行规，盘子要用水洗七遍，洗盘子计件付酬。有个打工的学生为提高效率，少洗了两遍。在抽查中，老板用试纸测出盘子的清洁度不达标，责问这个学生。她却振振有辞：“洗五遍不也挺干净吗？”老板淡淡地说：“你不诚实，请你离开。”这个学生不得不到另一家餐馆应聘，老板打量她半天，说：“你就是那个只洗五遍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盘子的学生吧，对不起，我们不需要。”第二家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第三家……她屡屡碰壁。不仅如此，她的房东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要她退房。万般无奈，她只得搬离了这个城市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476800" y="5865840"/>
            <a:ext cx="385524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ff0000"/>
                </a:solidFill>
                <a:latin typeface="Arial"/>
              </a:rPr>
              <a:t>这个学生的经历说明了什么？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82692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朱总理在十六届三中全会公报中特别提出，“要增强全社会的信用意识，形成以道德为支撑、产权为基础、法律为保障的社会信用制度。政府将从产权改革、法治、德治三方面着手加强诚信建设。逐步在全社会形成诚信为本、操守为重的良好风尚。加快建立企业、中介机构和个人的信用档案，使有不良行为记录者付出代价，名誉扫地，直至绳之以法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395280" y="404640"/>
            <a:ext cx="6095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法制和诚信体制的健全</a:t>
            </a:r>
            <a:endParaRPr b="1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" descr=""/>
          <p:cNvPicPr/>
          <p:nvPr/>
        </p:nvPicPr>
        <p:blipFill>
          <a:blip r:embed="rId1"/>
          <a:stretch/>
        </p:blipFill>
        <p:spPr>
          <a:xfrm>
            <a:off x="1476360" y="1380960"/>
            <a:ext cx="6048360" cy="475632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5224320" y="0"/>
            <a:ext cx="911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汉仪小隶书简"/>
              </a:rPr>
              <a:t>诚信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359960" y="1413000"/>
            <a:ext cx="7898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汉仪小隶书简"/>
              </a:rPr>
              <a:t>诚实，守信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423600" y="1557360"/>
            <a:ext cx="6069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《现代汉语词典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271560" y="1773360"/>
            <a:ext cx="1399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何  为  诚  信 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75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25"/>
                            </p:stCondLst>
                            <p:childTnLst>
                              <p:par>
                                <p:cTn id="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" dur="75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50"/>
                            </p:stCondLst>
                            <p:childTnLst>
                              <p:par>
                                <p:cTn id="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75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 txBox="1"/>
          <p:nvPr/>
        </p:nvSpPr>
        <p:spPr>
          <a:xfrm>
            <a:off x="755640" y="1085760"/>
            <a:ext cx="77040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如果学生不讲诚信会出现那些现象？出现什么后果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1547640" y="3556080"/>
            <a:ext cx="60674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solidFill>
                    <a:srgbClr val="ffcc99"/>
                  </a:solidFill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彩云"/>
              </a:rPr>
              <a:t>生活为之黯淡，前途为之渺茫</a:t>
            </a:r>
            <a:endParaRPr b="1" lang="en-US" sz="2400" spc="1" strike="noStrike">
              <a:ln w="0">
                <a:solidFill>
                  <a:srgbClr val="ffcc99"/>
                </a:solidFill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/>
          <p:nvPr/>
        </p:nvSpPr>
        <p:spPr>
          <a:xfrm>
            <a:off x="228600" y="20448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71732"/>
                </a:solidFill>
                <a:latin typeface="Arial"/>
                <a:ea typeface="华文行楷"/>
              </a:rPr>
              <a:t>　　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反思日常生活中自己在诚信方面做的还不够完善的地方，如何做个讲诚信的学生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30120" y="696960"/>
            <a:ext cx="22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诚信明镜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 txBox="1"/>
          <p:nvPr/>
        </p:nvSpPr>
        <p:spPr>
          <a:xfrm>
            <a:off x="128520" y="44280"/>
            <a:ext cx="55231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弘扬民族精神 作诚实守信学生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21" name=""/>
          <p:cNvSpPr/>
          <p:nvPr/>
        </p:nvSpPr>
        <p:spPr>
          <a:xfrm>
            <a:off x="2914560" y="620640"/>
            <a:ext cx="6229440" cy="58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新宋体"/>
              </a:rPr>
              <a:t>我宣誓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新宋体"/>
              </a:rPr>
              <a:t>言必行，行必果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新宋体"/>
              </a:rPr>
              <a:t>知之为知之，不知为不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新宋体"/>
              </a:rPr>
              <a:t>以诚信换取诚信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新宋体"/>
              </a:rPr>
              <a:t>以诚信收获成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新宋体"/>
              </a:rPr>
              <a:t>用诚信开启知识之窗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新宋体"/>
              </a:rPr>
              <a:t>用诚信鼓起上进之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新宋体"/>
              </a:rPr>
              <a:t>我诚信，我光荣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新宋体"/>
              </a:rPr>
              <a:t>我诚信，我自尊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新宋体"/>
              </a:rPr>
              <a:t>我诚信，我成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 txBox="1"/>
          <p:nvPr/>
        </p:nvSpPr>
        <p:spPr>
          <a:xfrm rot="5272800">
            <a:off x="-1447560" y="2743200"/>
            <a:ext cx="617220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宋体"/>
              </a:rPr>
              <a:t>诚信宣誓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2743200" y="620280"/>
            <a:ext cx="38383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诚信没有色彩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却可以让世界色彩斑斓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诚信没有标价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却可以让心灵千金难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祝愿每一位同学恪守诚信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拥有一个千金难买的诚信之心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祝愿我们的社会恪守诚信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创造一个色彩斑斓的诚信世界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 txBox="1"/>
          <p:nvPr/>
        </p:nvSpPr>
        <p:spPr>
          <a:xfrm rot="5400000">
            <a:off x="456840" y="1752120"/>
            <a:ext cx="5486400" cy="2438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再见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1"/>
          <a:stretch/>
        </p:blipFill>
        <p:spPr>
          <a:xfrm>
            <a:off x="5486400" y="762120"/>
            <a:ext cx="2057400" cy="178092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2"/>
          <a:stretch/>
        </p:blipFill>
        <p:spPr>
          <a:xfrm>
            <a:off x="5638680" y="3581280"/>
            <a:ext cx="2514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609480" y="380880"/>
            <a:ext cx="8534520" cy="617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2286000" cy="578340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2666880" y="0"/>
            <a:ext cx="2286000" cy="578340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3"/>
          <a:stretch/>
        </p:blipFill>
        <p:spPr>
          <a:xfrm>
            <a:off x="4800600" y="0"/>
            <a:ext cx="2286000" cy="578340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4"/>
          <a:stretch/>
        </p:blipFill>
        <p:spPr>
          <a:xfrm>
            <a:off x="6858000" y="0"/>
            <a:ext cx="2286000" cy="578340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 txBox="1"/>
          <p:nvPr/>
        </p:nvSpPr>
        <p:spPr>
          <a:xfrm>
            <a:off x="685800" y="457200"/>
            <a:ext cx="190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小品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40" name=""/>
          <p:cNvSpPr/>
          <p:nvPr/>
        </p:nvSpPr>
        <p:spPr>
          <a:xfrm>
            <a:off x="1447920" y="1676520"/>
            <a:ext cx="7086600" cy="24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诚信是一种能力，并不是每个人都具备这种能力，有些人就完全不具备这种能力，请欣赏小品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80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《道德医生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" descr="1.gif (26987 字节)"/>
          <p:cNvPicPr/>
          <p:nvPr/>
        </p:nvPicPr>
        <p:blipFill>
          <a:blip r:embed="rId5"/>
          <a:stretch/>
        </p:blipFill>
        <p:spPr>
          <a:xfrm>
            <a:off x="6765840" y="4876920"/>
            <a:ext cx="237816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539640" y="0"/>
            <a:ext cx="8604360" cy="5008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　　　　　　　　　《道德医生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病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最近有点不舒服，得找个医生看看！这里有一间诊所，看起来还不错，值得信任。门口还有幅对联。上联是“没病有病都可来”，下联是“乱医乱治乱收钱”，横批“专治傻人”。不错！不错！有人吗？医生！医生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   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医生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来啦！来啦！本人吴诚信，先生有什么事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病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有点不舒服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  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医生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那好！先检查检查。这里疼不疼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  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病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疼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  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医生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里不应该疼啊！这里疼不疼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  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病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疼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 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医生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里应该疼啊！没见过你这样不配合的病人！张开嘴巴看看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  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108000" y="260280"/>
            <a:ext cx="8604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病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啊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   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医生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天花板有点漏水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  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病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什么天花板！那是上腭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   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医生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好，上腭！上腭！你地板上长青苔啦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  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病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什么青苔！那是舌苔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  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医生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现在开药去吧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 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病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医生对我真好，给我开了这么多药，我好好                  看一看！医生你怎么给我开了八筐青霉素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  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医生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是为了让你早点好，不在复发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   病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怎么又给我开了两袋巴豆啊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   医生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好了要排毒，这是为你好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 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病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什么开了锅，碗，筷子，勺子一大堆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 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医生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怕你感染了你家人，要隔离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   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病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什么最后又开了一辆摩托车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  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医生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么多东西没摩托车你搬得回去吗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4" name=""/>
          <p:cNvGrpSpPr/>
          <p:nvPr/>
        </p:nvGrpSpPr>
        <p:grpSpPr>
          <a:xfrm>
            <a:off x="1219320" y="2819520"/>
            <a:ext cx="6651360" cy="1276200"/>
            <a:chOff x="1219320" y="2819520"/>
            <a:chExt cx="6651360" cy="1276200"/>
          </a:xfrm>
        </p:grpSpPr>
        <p:sp>
          <p:nvSpPr>
            <p:cNvPr id="645" name=""/>
            <p:cNvSpPr/>
            <p:nvPr/>
          </p:nvSpPr>
          <p:spPr>
            <a:xfrm>
              <a:off x="1219320" y="2819520"/>
              <a:ext cx="6651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219320" y="2819520"/>
              <a:ext cx="6651360" cy="12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36572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 txBox="1"/>
          <p:nvPr/>
        </p:nvSpPr>
        <p:spPr>
          <a:xfrm>
            <a:off x="611280" y="4869000"/>
            <a:ext cx="8229600" cy="1441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假如医生医德有问题，你敢进医院治病吗？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1835280" y="2637000"/>
            <a:ext cx="552420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严重后果： 要人性命</a:t>
            </a:r>
            <a:endParaRPr b="1" lang="en-US" sz="44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>
            <a:hlinkClick r:id="rId1"/>
          </p:cNvPr>
          <p:cNvSpPr/>
          <p:nvPr/>
        </p:nvSpPr>
        <p:spPr>
          <a:xfrm>
            <a:off x="1600200" y="42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122480" y="150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189000"/>
            <a:ext cx="9144000" cy="14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sp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度泛滥安徽阜阳市农村市场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无营养”劣质婴儿奶粉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钙、钾等矿物质和磷、铁、锌等微量元素的含量也普遍不合格，有的甚至还含有亚硝酸盐之类的杂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导致婴儿头大、浮肿，低烧。鲜花般娇嫩的幼小生命，刚来到人世几个月就枯萎、凋谢，罪魁祸首竟是本应为他们提供充足“养料”的奶粉。致使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婴儿死亡，六七十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婴儿残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户劣质奶粉经销商被工商局立案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 3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种劣质奶粉依法取缔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587320" y="-171360"/>
            <a:ext cx="302940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5600" spc="-1" strike="noStrike">
                <a:solidFill>
                  <a:srgbClr val="fc1239"/>
                </a:solidFill>
                <a:latin typeface="Times New Roman"/>
                <a:ea typeface="隶书"/>
              </a:rPr>
              <a:t>花朵</a:t>
            </a:r>
            <a:r>
              <a:rPr b="0" lang="zh-CN" sz="4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—</a:t>
            </a:r>
            <a:r>
              <a:rPr b="0" lang="zh-CN" sz="4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本该鲜艳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297120" y="7342200"/>
            <a:ext cx="61668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图片来自新华网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2"/>
          <a:stretch/>
        </p:blipFill>
        <p:spPr>
          <a:xfrm>
            <a:off x="684360" y="4149720"/>
            <a:ext cx="2950920" cy="259236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3"/>
          <a:stretch/>
        </p:blipFill>
        <p:spPr>
          <a:xfrm>
            <a:off x="5040360" y="4076640"/>
            <a:ext cx="3203640" cy="2708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178920" y="3427200"/>
            <a:ext cx="8494920" cy="28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98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年，张瑞敏接手青岛电冰箱厂那一年，一个朋友要买一台冰箱，挑了许多台都有毛病，最后勉强拉走一台还是有缺陷的。顾客走后，张瑞敏派人把库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40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多台冰箱全部翻箱，将发现有缺陷的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76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台冰箱摆在车间里让每一个员工参观，让大家说怎么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2089440" cy="259092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4138560" y="404640"/>
            <a:ext cx="3889440" cy="251964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 txBox="1"/>
          <p:nvPr/>
        </p:nvSpPr>
        <p:spPr>
          <a:xfrm>
            <a:off x="1908000" y="2852640"/>
            <a:ext cx="496908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cap="rnd" w="936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0000"/>
                </a:solidFill>
                <a:latin typeface="楷体_GB2312"/>
              </a:rPr>
              <a:t>砸毁冰箱</a:t>
            </a:r>
            <a:endParaRPr b="1" lang="en-US" sz="6600" spc="1" strike="noStrike">
              <a:ln cap="rnd" w="936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1166760" y="-162000"/>
            <a:ext cx="630396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spAutoFit/>
          </a:bodyPr>
          <a:p>
            <a:pPr>
              <a:spcBef>
                <a:spcPts val="4249"/>
              </a:spcBef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zh-CN" sz="6800" spc="-1" strike="noStrike">
                <a:solidFill>
                  <a:srgbClr val="ff0066"/>
                </a:solidFill>
                <a:latin typeface="Times New Roman"/>
                <a:ea typeface="隶书"/>
              </a:rPr>
              <a:t>“</a:t>
            </a:r>
            <a:r>
              <a:rPr b="0" lang="zh-CN" sz="6800" spc="-1" strike="noStrike">
                <a:solidFill>
                  <a:srgbClr val="ff3300"/>
                </a:solidFill>
                <a:latin typeface="Times New Roman"/>
                <a:ea typeface="隶书"/>
              </a:rPr>
              <a:t>冰箱</a:t>
            </a:r>
            <a:r>
              <a:rPr b="0" lang="zh-CN" sz="6800" spc="-1" strike="noStrike">
                <a:solidFill>
                  <a:srgbClr val="ff0066"/>
                </a:solidFill>
                <a:latin typeface="Times New Roman"/>
                <a:ea typeface="隶书"/>
              </a:rPr>
              <a:t>”砸</a:t>
            </a:r>
            <a:r>
              <a:rPr b="0" lang="zh-CN" sz="6800" spc="-1" strike="noStrike">
                <a:solidFill>
                  <a:srgbClr val="f71732"/>
                </a:solidFill>
                <a:latin typeface="Times New Roman"/>
                <a:ea typeface="隶书"/>
              </a:rPr>
              <a:t>出</a:t>
            </a:r>
            <a:r>
              <a:rPr b="0" lang="zh-CN" sz="6800" spc="-1" strike="noStrike">
                <a:solidFill>
                  <a:srgbClr val="ff0066"/>
                </a:solidFill>
                <a:latin typeface="Times New Roman"/>
                <a:ea typeface="隶书"/>
              </a:rPr>
              <a:t>了…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249"/>
              </a:spcBef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1"/>
          <a:stretch/>
        </p:blipFill>
        <p:spPr>
          <a:xfrm>
            <a:off x="5894280" y="912960"/>
            <a:ext cx="2781360" cy="3146400"/>
          </a:xfrm>
          <a:prstGeom prst="rect">
            <a:avLst/>
          </a:prstGeom>
          <a:ln w="0">
            <a:noFill/>
          </a:ln>
        </p:spPr>
      </p:pic>
      <p:grpSp>
        <p:nvGrpSpPr>
          <p:cNvPr id="663" name=""/>
          <p:cNvGrpSpPr/>
          <p:nvPr/>
        </p:nvGrpSpPr>
        <p:grpSpPr>
          <a:xfrm>
            <a:off x="324000" y="836640"/>
            <a:ext cx="7600320" cy="3926160"/>
            <a:chOff x="324000" y="836640"/>
            <a:chExt cx="7600320" cy="3926160"/>
          </a:xfrm>
        </p:grpSpPr>
        <p:sp>
          <p:nvSpPr>
            <p:cNvPr id="664" name=""/>
            <p:cNvSpPr/>
            <p:nvPr/>
          </p:nvSpPr>
          <p:spPr>
            <a:xfrm>
              <a:off x="324000" y="836640"/>
              <a:ext cx="5297400" cy="27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zh-CN" sz="2900" spc="-1" strike="noStrike">
                  <a:solidFill>
                    <a:srgbClr val="000000"/>
                  </a:solidFill>
                  <a:latin typeface="Times New Roman"/>
                </a:rPr>
                <a:t>如今海尔已建立起一个具有国际竞争力的全球设计网络、制造网络、营销与服务网络。拥有设计中心</a:t>
              </a:r>
              <a:r>
                <a:rPr b="1" lang="zh-CN" sz="2900" spc="-1" strike="noStrike">
                  <a:solidFill>
                    <a:srgbClr val="fc1f44"/>
                  </a:solidFill>
                  <a:latin typeface="Times New Roman"/>
                </a:rPr>
                <a:t>18</a:t>
              </a:r>
              <a:r>
                <a:rPr b="1" lang="zh-CN" sz="2900" spc="-1" strike="noStrike">
                  <a:solidFill>
                    <a:srgbClr val="000000"/>
                  </a:solidFill>
                  <a:latin typeface="Times New Roman"/>
                </a:rPr>
                <a:t>个，工业园区</a:t>
              </a:r>
              <a:r>
                <a:rPr b="1" lang="zh-CN" sz="2900" spc="-1" strike="noStrike">
                  <a:solidFill>
                    <a:srgbClr val="fc1f44"/>
                  </a:solidFill>
                  <a:latin typeface="Times New Roman"/>
                </a:rPr>
                <a:t>10</a:t>
              </a:r>
              <a:r>
                <a:rPr b="1" lang="zh-CN" sz="2900" spc="-1" strike="noStrike">
                  <a:solidFill>
                    <a:srgbClr val="000000"/>
                  </a:solidFill>
                  <a:latin typeface="Times New Roman"/>
                </a:rPr>
                <a:t>个，海外工厂及制造基地</a:t>
              </a:r>
              <a:r>
                <a:rPr b="1" lang="zh-CN" sz="2900" spc="-1" strike="noStrike">
                  <a:solidFill>
                    <a:srgbClr val="fc1f44"/>
                  </a:solidFill>
                  <a:latin typeface="Times New Roman"/>
                </a:rPr>
                <a:t>22</a:t>
              </a:r>
              <a:r>
                <a:rPr b="1" lang="zh-CN" sz="2900" spc="-1" strike="noStrike">
                  <a:solidFill>
                    <a:srgbClr val="000000"/>
                  </a:solidFill>
                  <a:latin typeface="Times New Roman"/>
                </a:rPr>
                <a:t>个，产品远销</a:t>
              </a:r>
              <a:r>
                <a:rPr b="1" lang="zh-CN" sz="2900" spc="-1" strike="noStrike">
                  <a:solidFill>
                    <a:srgbClr val="fc1239"/>
                  </a:solidFill>
                  <a:latin typeface="Times New Roman"/>
                </a:rPr>
                <a:t>160</a:t>
              </a:r>
              <a:r>
                <a:rPr b="1" lang="zh-CN" sz="2900" spc="-1" strike="noStrike">
                  <a:solidFill>
                    <a:srgbClr val="000000"/>
                  </a:solidFill>
                  <a:latin typeface="Times New Roman"/>
                </a:rPr>
                <a:t>多个国家和地区，甚至把工厂办到了美国；</a:t>
              </a:r>
              <a:r>
                <a:rPr b="1" lang="zh-CN" sz="2900" spc="-1" strike="noStrike">
                  <a:solidFill>
                    <a:srgbClr val="000000"/>
                  </a:solidFill>
                  <a:latin typeface="Arial"/>
                </a:rPr>
                <a:t>营销网点达</a:t>
              </a:r>
              <a:r>
                <a:rPr b="1" lang="zh-CN" sz="2900" spc="-1" strike="noStrike">
                  <a:solidFill>
                    <a:srgbClr val="fc1f44"/>
                  </a:solidFill>
                  <a:latin typeface="Arial"/>
                </a:rPr>
                <a:t>58800</a:t>
              </a:r>
              <a:r>
                <a:rPr b="1" lang="zh-CN" sz="2900" spc="-1" strike="noStrike">
                  <a:solidFill>
                    <a:srgbClr val="000000"/>
                  </a:solidFill>
                  <a:latin typeface="Arial"/>
                </a:rPr>
                <a:t>个，海尔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24000" y="3732120"/>
              <a:ext cx="7600320" cy="10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zh-CN" sz="31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  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324000" y="4376880"/>
            <a:ext cx="19008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24000" y="4443480"/>
            <a:ext cx="8496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集团从一个亏空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147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万元的集体小厂，发展成为全球营业额</a:t>
            </a:r>
            <a:r>
              <a:rPr b="1" lang="zh-CN" sz="2900" spc="-1" strike="noStrike">
                <a:solidFill>
                  <a:srgbClr val="fc1f44"/>
                </a:solidFill>
                <a:latin typeface="Arial"/>
              </a:rPr>
              <a:t>1000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亿元的中国第一品牌，海尔品牌两字价值达</a:t>
            </a:r>
            <a:r>
              <a:rPr b="1" lang="zh-CN" sz="2900" spc="-1" strike="noStrike">
                <a:solidFill>
                  <a:srgbClr val="f71732"/>
                </a:solidFill>
                <a:latin typeface="Arial"/>
              </a:rPr>
              <a:t>530</a:t>
            </a:r>
            <a:r>
              <a:rPr b="1" lang="zh-CN" sz="2900" spc="-1" strike="noStrike">
                <a:solidFill>
                  <a:srgbClr val="f71732"/>
                </a:solidFill>
                <a:latin typeface="Arial"/>
              </a:rPr>
              <a:t>多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亿元，成为中国最值钱的品牌，并入选世界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个知名品牌，获得越来越高的美誉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7:42:04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0:27:55Z</dcterms:modified>
  <cp:revision>93</cp:revision>
  <dc:subject>主题班会课件(分28大类): http://shop62905894.taobao.com</dc:subject>
  <dc:title>主题班会课件(分28大类): http://shop62905894.taobao.com</dc:title>
</cp:coreProperties>
</file>